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25B-0BB0-4B71-B21B-24E4FD89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EF2-9A2A-4A64-BAFE-E20FC3F1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938-5D1D-40AA-B193-B8459F12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10B-1D25-4190-BE87-4ADC915C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B78-97ED-4426-9620-9629C39C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CF2-CF3B-4DEB-B5FC-321BDA2B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65E-F10E-4C0C-91BE-1D170465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E0C-E322-4925-9DB4-D3060955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BB2-2C71-416B-86DB-B243BF8F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A3C-012F-48C8-B59F-6037A01B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8BD-E842-492B-857F-D33D6E38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852-2786-4B27-831C-44264A28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C321-2302-4FBE-A9C6-D5538940CE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11D Applications of linear programming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re are three types of applications that we look at in Further Math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Manufacturing problems (Ex 11C)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Blending problems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Transportation problems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Manufacturing problem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re are two items being made (decision variables x and y)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re are constraints on the number of each item to be made due to time, money, or labour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re is a profit/cost objective function to be maximised/minimised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Blending problem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</a:rPr>
              <a:t>One item is being made with raw material from three suppliers.</a:t>
            </a:r>
            <a:endParaRPr b="0" lang="en-US" sz="2700" spc="-1" strike="noStrike">
              <a:solidFill>
                <a:srgbClr val="000000"/>
              </a:solidFill>
              <a:latin typeface="Cambria Math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</a:rPr>
              <a:t>Raw materials are being blended into a single item of a given size, weight, or volume.</a:t>
            </a:r>
            <a:endParaRPr b="0" lang="en-US" sz="2700" spc="-1" strike="noStrike">
              <a:solidFill>
                <a:srgbClr val="000000"/>
              </a:solidFill>
              <a:latin typeface="Cambria Math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</a:rPr>
              <a:t>The material contains components in varying amounts that, after blending, must meet some minimal (or maximal) standard. There should be at least two components whose blended amount is restricted.</a:t>
            </a:r>
            <a:endParaRPr b="0" lang="en-US" sz="2700" spc="-1" strike="noStrike">
              <a:solidFill>
                <a:srgbClr val="000000"/>
              </a:solidFill>
              <a:latin typeface="Cambria Math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</a:rPr>
              <a:t>The objective function is based on the differing costs of the material from the three suppliers and is to be minimised.</a:t>
            </a:r>
            <a:endParaRPr b="0" lang="en-US" sz="27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: Ex 11D, Q.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1D, Q.2, 3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Transportation problem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There is a single item being transported from exactly two factories to two distributors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Each distributor has a given demand which is the controlling influence, while each factory has a given level of production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The constraints are based on all shipments being non-negative quantities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The objective function is the transport cost, which must be minimised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1D, Q.4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1D, Q. 5, 6, 7, 9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6:18:42Z</dcterms:created>
  <dc:creator>08843474</dc:creator>
  <dc:description/>
  <dc:language>en-US</dc:language>
  <cp:lastModifiedBy>08843474</cp:lastModifiedBy>
  <dcterms:modified xsi:type="dcterms:W3CDTF">2011-07-19T06:53:36Z</dcterms:modified>
  <cp:revision>2</cp:revision>
  <dc:subject/>
  <dc:title>11D Applications of linear programming</dc:title>
</cp:coreProperties>
</file>